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ECF-5B65-44B2-8791-99B77B01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615-1343-446C-81A1-FF3593DC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F7D-B966-4145-9499-A2705F91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80E-6771-4371-A75C-721EE07C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9C2-3FA0-4908-AFC4-0F818BE9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C76-7478-4347-881E-8F99B8B7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F0D-BD4D-40C2-BBAE-D5664FBA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0F7-F0D2-460C-BC0F-2E63994F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E59-008D-4C84-BF87-0BDE95CE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3E2-B4DD-4C78-A627-86458668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244-AD26-4829-8A8E-9D7BE580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E01-F6D6-4703-B44A-C2135FB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DF30-ADB0-4012-980C-B99313D4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081200">
            <a:off x="1371600" y="0"/>
            <a:ext cx="49975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ilbert Erector Set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4800600"/>
            <a:ext cx="3047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e Gil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1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6320" y="6858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791320"/>
            <a:ext cx="4953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my Ang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ebruary 27, 20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171775"/>
            </a:gs>
            <a:gs pos="100000">
              <a:srgbClr val="333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A.C. Gilbert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6216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ector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Set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, 17, 2012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Febhttp://web.mit.edu/invent/iow/gilber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C. Gilbert started  off making toys to educate and entertain children so they didn’t have to go to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53080" y="2743200"/>
            <a:ext cx="2590920" cy="184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012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A.C. Gilb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C. Gilbert was one of the most famous multitalented inventor of all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hose to educate and entertain children through to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09 A.C. Gilbert finished medical school but decided to expand his budding toy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lbert began selling the Gilbert Erector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itish toy company (also Gilberts rival), began selling a similar to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lberts Erector set grew more popular and everyone was buy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The Gilbert Erector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lbert Erector Set was made metal beams, screws, bolts, pulleys, gears, and eventually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lbert Erector Set began to sell and everyone new, which made his other toys very popu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13 Gilbert Erector Set stopped selling and he began to sell the Mysto Erector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6Z</dcterms:created>
  <dc:creator>install</dc:creator>
  <dc:description/>
  <dc:language>en-US</dc:language>
  <cp:lastModifiedBy>install</cp:lastModifiedBy>
  <dcterms:modified xsi:type="dcterms:W3CDTF">2012-03-09T15:00:47Z</dcterms:modified>
  <cp:revision>8</cp:revision>
  <dc:subject/>
  <dc:title>Slide 1</dc:title>
</cp:coreProperties>
</file>